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616-E8B4-491D-8C40-13FEF497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426-B94C-4A4C-9AE0-4EF7C1C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FF8-B436-4451-92E9-35634B61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C0A-46BA-4D64-A77B-8637A077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4DA-B094-417F-9C25-38BE57D7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83E9-6197-4E55-A057-7D4ABB5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BA1-5895-41E4-9D27-4B4A39E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FE53-F481-4E0E-9A15-C559555E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34D2-D7B6-4315-BD23-05D4EAC0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B89A-72F8-46A8-B2C6-582E608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9CD1-00A6-42ED-ACE5-5FE5B72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F1B-88C9-47A2-98CB-385FD8E4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4E5-CBF2-4A3A-A180-DECBB32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D46-949A-4B88-BBAB-687EB43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4FA-4E1A-4704-B790-82565B35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243A-F958-487D-9AFE-EB9CC502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1C8B-B2B6-4FF2-876F-9D11EA98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80FFE-245F-4B18-AD0A-D2D28100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E2A9F-75C6-40A2-8D78-D270DEF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7DB72-5BBE-4191-B668-2CAEA35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476FF-448D-489B-A500-E0B7BEE8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67DF1-B3D6-446F-B508-C1F4FFA0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3BF-DD0F-416E-9726-56F142A0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5B521-F3D5-4874-9E6E-416A297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C80B9-2C14-405B-A798-7A8E3CB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BDDA9-E6FE-487F-AEF9-0D547C7B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38BAD-DA51-4D2F-AF70-786C13E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CDF94-D1ED-4ADF-A105-42CC65B7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87BFA-D857-44FB-BE5D-1A850756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40CC7-218D-4C2A-8DB1-229AF6E1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BC02-6C93-4A39-9F83-356C8DED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EA9E-8C97-47E0-B3D7-5CEDE11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2565-0029-4005-908E-DA2585C3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B7B-5F30-4A9F-862E-BF09EA2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3A9A-27C5-4524-A302-B1604D22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FAA3-1EA5-415A-913A-17ACCDDC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E8C6-F7EC-4323-B336-0BFA85C3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2DC5-F29F-4358-9431-8055CB7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9651-3A06-4BB7-839F-5939F88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6F66-F5DC-4C15-8B6B-4B2B1B2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6E2D-0056-4F1B-9D4A-FFD9C12A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773D-98BA-4C46-80A2-BEEDC35A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64C9-D4E0-4FD0-AD79-2565ED3F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8A6-AA61-423E-AC11-8725A117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266-7B5E-424A-B558-AE4CA6D6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DFB-5F8A-40D8-893E-E086F7D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C89-C1D7-400E-87D8-4271762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5A5-482D-4F6E-9ABD-9AC1FD8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4FAC-8609-4927-9FA4-2745BD6009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E4A-D4ED-490A-8488-8E94FFD0DA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EA33-A764-45D1-9029-33132F59EB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A335-37E1-467F-8C17-4EEAA5F7F6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h. 54 Warm-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1920" y="1294920"/>
            <a:ext cx="52578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population has a birth rate of 0.07 and a death rate of 0.01, calculate the number of individuals added/subtracted from a population of 1,000 individuals in one yea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+/-/0, indicate the relationships i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Preda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Parasitism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Mutualism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Commensalism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n invasive speci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5334120" y="1495440"/>
            <a:ext cx="373356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Define Ch. 54 Terms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Fundamental 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Realized 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Symb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Mu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Commens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Keyston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Invasiv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Ecological suc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Primary suc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Secondary suc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53_05CrypticColoration_UP"/>
          <p:cNvPicPr/>
          <p:nvPr/>
        </p:nvPicPr>
        <p:blipFill>
          <a:blip r:embed="rId1"/>
          <a:stretch/>
        </p:blipFill>
        <p:spPr>
          <a:xfrm>
            <a:off x="152280" y="685800"/>
            <a:ext cx="3395880" cy="25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53_06AposematicColor_UP"/>
          <p:cNvPicPr/>
          <p:nvPr/>
        </p:nvPicPr>
        <p:blipFill>
          <a:blip r:embed="rId2"/>
          <a:stretch/>
        </p:blipFill>
        <p:spPr>
          <a:xfrm>
            <a:off x="5791320" y="3657600"/>
            <a:ext cx="3047760" cy="29304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6"/>
          <p:cNvGrpSpPr/>
          <p:nvPr/>
        </p:nvGrpSpPr>
        <p:grpSpPr>
          <a:xfrm>
            <a:off x="3581280" y="838080"/>
            <a:ext cx="5410440" cy="2743200"/>
            <a:chOff x="3581280" y="838080"/>
            <a:chExt cx="5410440" cy="2743200"/>
          </a:xfrm>
        </p:grpSpPr>
        <p:pic>
          <p:nvPicPr>
            <p:cNvPr id="247" name="Picture 5" descr=""/>
            <p:cNvPicPr/>
            <p:nvPr/>
          </p:nvPicPr>
          <p:blipFill>
            <a:blip r:embed="rId3"/>
            <a:stretch/>
          </p:blipFill>
          <p:spPr>
            <a:xfrm>
              <a:off x="3581280" y="838080"/>
              <a:ext cx="54104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3"/>
            <p:cNvSpPr/>
            <p:nvPr/>
          </p:nvSpPr>
          <p:spPr>
            <a:xfrm>
              <a:off x="3948480" y="2706120"/>
              <a:ext cx="1499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ckoo b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4"/>
            <p:cNvSpPr/>
            <p:nvPr/>
          </p:nvSpPr>
          <p:spPr>
            <a:xfrm>
              <a:off x="6364440" y="3335040"/>
              <a:ext cx="14990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llow ja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0"/>
          <p:cNvGrpSpPr/>
          <p:nvPr/>
        </p:nvGrpSpPr>
        <p:grpSpPr>
          <a:xfrm>
            <a:off x="152280" y="3429000"/>
            <a:ext cx="5411880" cy="3160800"/>
            <a:chOff x="152280" y="3429000"/>
            <a:chExt cx="5411880" cy="3160800"/>
          </a:xfrm>
        </p:grpSpPr>
        <p:pic>
          <p:nvPicPr>
            <p:cNvPr id="251" name="Picture 29" descr=""/>
            <p:cNvPicPr/>
            <p:nvPr/>
          </p:nvPicPr>
          <p:blipFill>
            <a:blip r:embed="rId4"/>
            <a:stretch/>
          </p:blipFill>
          <p:spPr>
            <a:xfrm>
              <a:off x="152280" y="3429000"/>
              <a:ext cx="541188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1"/>
            <p:cNvSpPr/>
            <p:nvPr/>
          </p:nvSpPr>
          <p:spPr>
            <a:xfrm>
              <a:off x="509400" y="6328080"/>
              <a:ext cx="1499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wkmoth lar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2760120" y="5769720"/>
              <a:ext cx="1499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een parrot sn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7621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ymb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2+ species live in direct contact with one an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Parasitism (+/-), mutualism (+/+), commensalism (+/0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5" name="Picture 2" descr="53_09Mutualism_UP"/>
          <p:cNvPicPr/>
          <p:nvPr/>
        </p:nvPicPr>
        <p:blipFill>
          <a:blip r:embed="rId1"/>
          <a:stretch/>
        </p:blipFill>
        <p:spPr>
          <a:xfrm>
            <a:off x="228600" y="2362320"/>
            <a:ext cx="4495680" cy="2797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53_10Commensalism_UP"/>
          <p:cNvPicPr/>
          <p:nvPr/>
        </p:nvPicPr>
        <p:blipFill>
          <a:blip r:embed="rId2"/>
          <a:stretch/>
        </p:blipFill>
        <p:spPr>
          <a:xfrm>
            <a:off x="4876920" y="3581280"/>
            <a:ext cx="4084560" cy="3084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486400" y="3048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ns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ommunity Stru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Species diversity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2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species rich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# of different species) + </a:t>
            </a:r>
            <a:r>
              <a:rPr b="1" lang="en-US" sz="2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relative abundance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each spec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ch is most divers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Community 1: 90A, 10B, 0C, 0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Community 2: 25A, 25B, 25C, 25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Community 3: 80A, 5B, 5C, 10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Shannon Diversity 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calculate diversity based on species richness &amp; relative abund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ly diverse communities more resistant 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vasive spec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Invasive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become established outside native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Kud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– vine plant from Japan, noxious weed that kills trees &amp; shrub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http://1.bp.blogspot.com/_ALN7_3uQFD8/TG14rOS5HjI/AAAAAAAAEv0/iRrd8Clwkvk/s1600/kudzugoatseatingit.jpg"/>
          <p:cNvPicPr/>
          <p:nvPr/>
        </p:nvPicPr>
        <p:blipFill>
          <a:blip r:embed="rId1"/>
          <a:stretch/>
        </p:blipFill>
        <p:spPr>
          <a:xfrm>
            <a:off x="4952880" y="3962520"/>
            <a:ext cx="3302280" cy="2476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64" name="Picture 6" descr="http://www.dcnr.state.pa.us/forestry/invasivetutorial/images/kudzu4.jpg"/>
          <p:cNvPicPr/>
          <p:nvPr/>
        </p:nvPicPr>
        <p:blipFill>
          <a:blip r:embed="rId2"/>
          <a:stretch/>
        </p:blipFill>
        <p:spPr>
          <a:xfrm>
            <a:off x="495360" y="3962520"/>
            <a:ext cx="36576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Invasive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8600" y="1447920"/>
            <a:ext cx="5562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tch elm diseas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fungus carried by beet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ived in U.S. on logs imported from Netherland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ath of many elm trees across U.S., Europe, Canada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o cultivate resistant strains of elm tre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4" descr="http://media-3.web.britannica.com/eb-media/70/12170-004-FBE79ED3.jpg"/>
          <p:cNvPicPr/>
          <p:nvPr/>
        </p:nvPicPr>
        <p:blipFill>
          <a:blip r:embed="rId1"/>
          <a:stretch/>
        </p:blipFill>
        <p:spPr>
          <a:xfrm>
            <a:off x="5943600" y="1523880"/>
            <a:ext cx="2895480" cy="376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Invasive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14479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otato Blight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fungus-like disease caused Irish Potato Famine in 184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rrived in Ireland from ships coming from U.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nly 1 species of potato planted in Irelan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all susceptible to disea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million people di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blem with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  <a:ea typeface="Arial"/>
              </a:rPr>
              <a:t>monocult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&amp; lack of genetic diversity of crop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Picture 2" descr="http://upload.wikimedia.org/wikipedia/commons/thumb/a/a6/Symptom_potato_late_blight.jpg/220px-Symptom_potato_late_blight.jpg"/>
          <p:cNvPicPr/>
          <p:nvPr/>
        </p:nvPicPr>
        <p:blipFill>
          <a:blip r:embed="rId1"/>
          <a:stretch/>
        </p:blipFill>
        <p:spPr>
          <a:xfrm>
            <a:off x="6172200" y="4724280"/>
            <a:ext cx="2530440" cy="17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71" name="Picture 4" descr="http://www.bbc.co.uk/herefordandworcester/content/images/2005/07/11/potato_blight_203_203x152.jpg"/>
          <p:cNvPicPr/>
          <p:nvPr/>
        </p:nvPicPr>
        <p:blipFill>
          <a:blip r:embed="rId2"/>
          <a:stretch/>
        </p:blipFill>
        <p:spPr>
          <a:xfrm>
            <a:off x="6172200" y="2556000"/>
            <a:ext cx="2590920" cy="1939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72" name="Picture 6" descr="http://t0.gstatic.com/images?q=tbn:ANd9GcS5AtsuZfhdu4La076MgpwyUyIXKX3SbZUF51J45OyakVFcVdCi&amp;t=1"/>
          <p:cNvPicPr/>
          <p:nvPr/>
        </p:nvPicPr>
        <p:blipFill>
          <a:blip r:embed="rId3"/>
          <a:stretch/>
        </p:blipFill>
        <p:spPr>
          <a:xfrm>
            <a:off x="6143760" y="542880"/>
            <a:ext cx="261936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  <a:ea typeface="Arial"/>
              </a:rPr>
              <a:t>Trophic Stru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1599840"/>
            <a:ext cx="868680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ophic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a community is determined by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eeding relationshi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ween organism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Trophic lev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links in the trophic struc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ransfer of food energy from pla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erbivo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rnivo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composers is call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572000" y="304920"/>
            <a:ext cx="4357800" cy="6095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431880" y="60800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3.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2280" y="1447560"/>
            <a:ext cx="4724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What limits the length of a food chain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527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efficiency of energy transfer along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27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food chains less stable than short chai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343400" y="762120"/>
            <a:ext cx="4624560" cy="556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51920" y="1828800"/>
            <a:ext cx="48006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or more food chains linked together are called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ood we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given species may weave into the web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than 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ophic leve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5960" y="685440"/>
            <a:ext cx="64767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ominant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has the highest biomass or is the most abundant in the commun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Keystone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exert control on community structure by their important ecological ni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Loss of </a:t>
            </a:r>
            <a:r>
              <a:rPr b="0" lang="en-US" sz="2600" spc="-1" strike="noStrike">
                <a:solidFill>
                  <a:srgbClr val="f63f1b"/>
                </a:solidFill>
                <a:latin typeface="Arial"/>
                <a:ea typeface="Arial"/>
              </a:rPr>
              <a:t>sea otter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 increase sea urchins, destruction of kelp fores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3f1b"/>
                </a:solidFill>
                <a:latin typeface="Arial"/>
                <a:ea typeface="Arial"/>
              </a:rPr>
              <a:t>Grizzly bear 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(transfer nutrients from sea 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 land by salmon die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3f1b"/>
                </a:solidFill>
                <a:latin typeface="Arial"/>
                <a:ea typeface="Arial"/>
              </a:rPr>
              <a:t>Prairie dogs 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Arial"/>
              </a:rPr>
              <a:t>(burrows, soil aeration, trim vegetation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447920" cy="217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83" name="Picture 4" descr="http://www.concierge.com/images/destinations/destinationguide/usa%2Bcanada/usa/alaska/seeanddo/bearwatching/grizzlybearsalmon_001p.jpg"/>
          <p:cNvPicPr/>
          <p:nvPr/>
        </p:nvPicPr>
        <p:blipFill>
          <a:blip r:embed="rId2"/>
          <a:stretch/>
        </p:blipFill>
        <p:spPr>
          <a:xfrm>
            <a:off x="6705720" y="2506680"/>
            <a:ext cx="2133360" cy="1684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284" name="Picture 6" descr="http://lair2000.net/Mermaid_Lyrics6/lyrics/otter.jpg"/>
          <p:cNvPicPr/>
          <p:nvPr/>
        </p:nvPicPr>
        <p:blipFill>
          <a:blip r:embed="rId3"/>
          <a:stretch/>
        </p:blipFill>
        <p:spPr>
          <a:xfrm>
            <a:off x="6629400" y="609480"/>
            <a:ext cx="2209680" cy="160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hapter 54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ommunity Ecolog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8" name="Picture 2" descr="54_01CrabSeaUrchin-L.jpg"/>
          <p:cNvPicPr/>
          <p:nvPr/>
        </p:nvPicPr>
        <p:blipFill>
          <a:blip r:embed="rId1"/>
          <a:stretch/>
        </p:blipFill>
        <p:spPr>
          <a:xfrm>
            <a:off x="1676520" y="2438280"/>
            <a:ext cx="56894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Arial"/>
                <a:ea typeface="Arial"/>
              </a:rPr>
              <a:t>Disturbances influences species diversity and composition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disturb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hanges a community by removing organisms or changing resource availability (fire, drought, flood, storm, human activ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cological succ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ransitions in species composition in a certain area over ecological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1" descr=""/>
          <p:cNvPicPr/>
          <p:nvPr/>
        </p:nvPicPr>
        <p:blipFill>
          <a:blip r:embed="rId1"/>
          <a:stretch/>
        </p:blipFill>
        <p:spPr>
          <a:xfrm>
            <a:off x="25560" y="2230560"/>
            <a:ext cx="5689440" cy="4627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Primary Succe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0" y="1447560"/>
            <a:ext cx="6858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nts &amp; animals invade where soil has not yet form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Ex. colonization of volcanic island or glaci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condary Succe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ccurs when existing community is cleared by a disturbance that leaves soil int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Ex. abandoned farm, forest fi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264960" y="3019320"/>
            <a:ext cx="8650440" cy="3762360"/>
            <a:chOff x="264960" y="3019320"/>
            <a:chExt cx="8650440" cy="3762360"/>
          </a:xfrm>
        </p:grpSpPr>
        <p:pic>
          <p:nvPicPr>
            <p:cNvPr id="293" name="Picture 17" descr=""/>
            <p:cNvPicPr/>
            <p:nvPr/>
          </p:nvPicPr>
          <p:blipFill>
            <a:blip r:embed="rId1"/>
            <a:stretch/>
          </p:blipFill>
          <p:spPr>
            <a:xfrm>
              <a:off x="264960" y="3019320"/>
              <a:ext cx="8536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5"/>
            <p:cNvSpPr/>
            <p:nvPr/>
          </p:nvSpPr>
          <p:spPr>
            <a:xfrm>
              <a:off x="631440" y="6010200"/>
              <a:ext cx="37911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oon after fire. As this photo taken soon after the fire shows, the burn left a patchy landscape. Note the unburned trees in the distance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4870440" y="6019920"/>
              <a:ext cx="404496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e year after fire. This photo of the same general area taken the following year indicates how rapidly the com-munity began to recover. A variety of herbaceous plants, different from those in the former forest, cover the groun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Biogeographic Facto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47560"/>
            <a:ext cx="838188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t factor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96040" indent="-498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atitude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: species more diverse in tropics than po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96040" indent="-498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rea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: larger areas more diver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10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iogeographic isla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natural labs for studying species diver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96040" indent="-498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Influenced by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</a:rPr>
              <a:t>siz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and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</a:rPr>
              <a:t>dist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9440" indent="-443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Larger islands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 greater immigration, lower extin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9440" indent="-443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Far from mainland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Arial"/>
                <a:ea typeface="ＭＳ Ｐゴシック"/>
              </a:rPr>
              <a:t> immigration falls, extinction rates increase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You Must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a fundamental niche and a realized nich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ole of competitive exclusion in interspecific competi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ymbiotic relationships of parasitism, mutualism, and commensalis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mpact of keystone species on community structu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primary and secondary success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3520" y="9144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Comm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group of populations of different species living close enough to inter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1"/>
          <a:srcRect l="9524" t="0" r="4762" b="23447"/>
          <a:stretch/>
        </p:blipFill>
        <p:spPr>
          <a:xfrm>
            <a:off x="762120" y="1981080"/>
            <a:ext cx="7737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Interspecific intera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560" y="1447560"/>
            <a:ext cx="8839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positive (+), negative (-) or neutral (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Competition (-/-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Predation (+/-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Herbivory (+/-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Symbiosis – parasitism, mutualism, commensalism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Facilitation (+/+ or 0/+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54_UN03Summary_C1-L.jpg"/>
          <p:cNvPicPr/>
          <p:nvPr/>
        </p:nvPicPr>
        <p:blipFill>
          <a:blip r:embed="rId1"/>
          <a:stretch/>
        </p:blipFill>
        <p:spPr>
          <a:xfrm>
            <a:off x="977760" y="274680"/>
            <a:ext cx="71694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160" y="1295280"/>
            <a:ext cx="8381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rspecific competi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urces are in short supp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Species interaction is -/-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mpetitive exclusion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wo species cannot coexist in a community if their niches are identic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he one with the slight reproductive advantage will eliminate the other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source part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differences in niches that enable similar species to coex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  <a:ea typeface="Arial"/>
              </a:rPr>
              <a:t>Ecological nich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: the sum total of an organism’s use of abiotic/biotic resources in the environment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0520" y="1905120"/>
            <a:ext cx="85345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damental n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niche potentially occupied by the spec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alized n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ortion of fundamental niche the spec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ccup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303120" y="4257720"/>
            <a:ext cx="8535960" cy="2371680"/>
            <a:chOff x="303120" y="4257720"/>
            <a:chExt cx="8535960" cy="2371680"/>
          </a:xfrm>
        </p:grpSpPr>
        <p:pic>
          <p:nvPicPr>
            <p:cNvPr id="230" name="Picture 28" descr=""/>
            <p:cNvPicPr/>
            <p:nvPr/>
          </p:nvPicPr>
          <p:blipFill>
            <a:blip r:embed="rId1"/>
            <a:stretch/>
          </p:blipFill>
          <p:spPr>
            <a:xfrm>
              <a:off x="303120" y="4257720"/>
              <a:ext cx="853596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2"/>
            <p:cNvSpPr/>
            <p:nvPr/>
          </p:nvSpPr>
          <p:spPr>
            <a:xfrm>
              <a:off x="7169040" y="5040360"/>
              <a:ext cx="16128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hthama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damental n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7991640" y="433836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8032680" y="583740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4883040" y="577692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3359160" y="4567320"/>
              <a:ext cx="12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hthama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lized n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3779640" y="434484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9"/>
            <p:cNvSpPr/>
            <p:nvPr/>
          </p:nvSpPr>
          <p:spPr>
            <a:xfrm>
              <a:off x="3797280" y="584352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t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647280" y="5783400"/>
              <a:ext cx="768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2930400" y="5297400"/>
              <a:ext cx="12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alan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lized n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1301400" y="4459320"/>
              <a:ext cx="10476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hthama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1304640" y="4726080"/>
              <a:ext cx="7365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alan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Predation (+/-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880" y="1371240"/>
            <a:ext cx="830592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ensive adaptations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Cryptic colora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camouflaged by coloring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Aposematic or warning colora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bright color of poisonous animal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Batesian mimicry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harmless species mimic color of harmful specie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Mullerian mimicry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2 bad-tasting species resemble each other; both to be avoided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Herbiv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plants avoid this by chemical toxins, spines, &amp; thorn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local</cp:lastModifiedBy>
  <cp:lastPrinted>2001-01-06T03:20:03Z</cp:lastPrinted>
  <dcterms:modified xsi:type="dcterms:W3CDTF">2013-08-28T15:05:28Z</dcterms:modified>
  <cp:revision>320</cp:revision>
  <dc:subject/>
  <dc:title>Nerve activates contraction</dc:title>
</cp:coreProperties>
</file>